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380520" y="685800"/>
            <a:ext cx="609300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B811B-A7AF-4339-ADF1-902B29985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6A3AC-CFE5-4296-BDD7-392FA660E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1C12-F1EA-4797-B3E3-652A6CB02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BA52-92CD-4F2E-8B9B-D755D4F132B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3E40-AA44-4078-ACAD-934194312FB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325F-A7E1-4DFB-962D-ED6C9A231D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A754-84D3-461C-8C05-62D26EB185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FC36-B8F0-4E22-9EC1-014B535E79C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853A-92DD-414C-92E1-232B4D805D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118C-2022-4C5D-A2D8-F5664E30361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565AA-5DEB-4CA3-A701-8E774C03152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55E2-9CC0-4EE2-82D7-84AE28D572E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F77E-8314-4A48-86D4-475790DE822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3ADFB-FC69-4CEB-A107-5F7AAA441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558D-AF99-4923-8782-B466A5C9A10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80DD52-8114-4145-B8BC-2C227FC4460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B9AD27-5709-48C6-93E4-98A6700013B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A07376-1628-4CFF-A940-C19D3DF8174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94FBD-CCD7-4BF5-AA46-0A533A9067D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7AE3A-9AC0-4301-AEB9-DDABBFB43E7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66360-230F-48E1-A1B8-EFAA71B3CF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BA80C-FF59-4F10-BC07-649C61B7E35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33B10-245D-4C83-870C-FBA3ACBF85C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7D4E9-7159-478A-B815-F80CF0DD49D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1B11D-822A-42E6-B530-18A8D1E00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5165-47DA-451F-AEFD-350F1B12A8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F916B-3214-453D-8722-8E09AB493E1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D778D-7EED-4EE0-8F07-3DCAADE2873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D6B4E-584C-4BBC-B381-B06B126AFD4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CF734-76C1-4336-B71C-02433FB35C6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25265-96A8-470D-BD61-199FD3A32CD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4A0B1-AD48-4EEC-906E-3A83F9F6379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08A9C-0F48-4D22-95A6-CE8748B2FBC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4EAE8-501A-4679-9E11-54AD50EFA62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6D499-C1AF-4B56-ADD6-381112D12B4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AD87A4-8E19-49C2-BB51-EF51BB91C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3E0B-ADCD-4074-8025-151E6062EC6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47845-CE0A-4F5E-A4B1-C510FA8ECA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874EE-1EDD-43AE-BDE3-02D1608A0DA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210C2-4B67-4815-824F-85233E36D8E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2CE7B-E32D-494D-9AF3-26EF1BA28F2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B53CD-3FD1-4767-9D4F-1AACE4B7EC0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7CC0E-847C-437A-971D-9BE07866172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D0F9E-32A6-48B9-AE1F-05C171E6232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62FB-CC84-46A4-8C9E-059D8DCD3DA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A391B-EA75-45FE-AE15-14E86409DB2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467FB-1A9A-4D47-B550-B927E8DCC8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801F-DECF-46F4-B729-7D9329276D9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7F317-6612-4985-A121-738685FF08A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ADFE-B3DE-4943-8B98-C28F1D7EA42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ADF41-5D9C-4E31-95A7-5A077D27499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CB40-20DC-43C6-819D-CC537174EE3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3BD9-4FF7-4DD2-B62D-A2108675E4B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3A1E94-372D-4593-9A40-89F9CDF1FF7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D64839-DA7F-4955-8C84-840D4FEACC1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D355A1-E552-4AC0-8AB4-9F1B04A8147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38329-0BD3-45AB-9462-5C6FDC6684B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AC242C-72D2-4BB4-A4C5-F72F1F09F4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66A9-EF07-4A9A-B158-11C99A6367A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7E5C25-0FAD-4CD4-B6D1-2C1ADF0FBBD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7A404F-786E-4080-A697-0B1C7DC5758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36438E-2534-448C-B394-36530B42F2C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9C1D0C-7D88-44A9-B624-11F82D5E532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E391E5-1674-47A1-80E0-8A5595799FF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BDDEBC-3533-45BB-B171-59B04383DC7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F34362-A192-4355-AA9B-3BE590D4DB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ED1B-9E0C-4549-8335-584918DAB9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9BED-96E7-484E-8A76-B12ECD6FCA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B4BD-5BEC-42FD-B18D-62E4F13FB9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D986-5B12-435B-9C02-7C16F96F4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6936-6F55-4A43-95DB-A52DF5203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4D79-1F6F-45F5-9EFD-9198E7AE4A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E3AF-B4A2-439A-ADEB-A06C05759F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F698-301F-43DE-B0FC-F062344527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5511-3116-4C7C-B3D7-0C6F6A91E6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DFC7-053D-4B93-B462-B5898C6AB5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EDF-B6A7-4FBD-A81F-1465C190DF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4BB-2F45-46A1-ABE9-ECDDB77815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06F-145E-40F2-820B-BFEF3596D6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571-A208-44C8-8A01-8B48F33F1E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A21-557A-4A99-A157-FEA616A55E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96A6-35DE-4211-9051-5B19FFA9F8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3C1-6CA7-4651-B804-F8531A9937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A0F-D7CE-4170-AAFC-BE287A15A2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659-1CB4-4E1C-8DA7-AF6BAD5EAB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278-E4BC-4907-8B9C-271006DDFC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057-8E21-44D5-97C2-B35F6FAFE0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30F-6D41-41E2-8066-1E1C5D1DA2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F2D-5CD7-4C54-8848-92D37873CA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B1022-A27F-4818-96EB-C7D9723923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90EE5-F975-4702-AB28-47AB991E2B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53CCA-1FD1-40C3-BC94-EEF2A91EE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6BD4-6BCC-4DF9-AC82-3921380CCD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882B7-1255-4F86-8A83-FFB699F7C2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0C378-48B9-4AA0-A70D-83FC3F074F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C4BAA-F13C-4695-8FD9-78ACD8F1BF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30335-5337-4B22-8577-A88CD77688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5D3BA-567B-4296-BEA6-3B84106C3A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A6E54-9D93-4531-9594-B5F39F9E50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74AEB-CB87-463E-B5E5-7592284346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6552F-A2D9-499B-8C40-30B0B2AC91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C5227-646D-4AB1-9F9B-896C1CC307A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C767F-6088-4A82-AAAD-C97B2273E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8855-A182-45F4-B68B-F334B216CD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A7BA4-9035-4C89-9AA9-8CF3A87EF0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B49C6-6096-45D5-B0BA-9C27C92D4D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B8CF7-0EBE-4F7C-BEA7-9DA78E8A8C2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BBAE6-211A-488B-8567-2279ABE1C37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A6C8E-1D7A-45B6-8646-8F439F32F95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2923E-105A-4F09-AA59-0768584C1C3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DD00D-6AB7-4694-AFF9-D6BA27BD92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68EAE-282C-4153-BA89-EE6FC21C95C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75D26-49A2-48AC-9149-053CAD6FD8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F7ED1-D461-4613-A459-02CE53494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A3C2-18E1-48A2-99EE-AD2D5277C3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3BD5A-2F41-4355-87CB-EBE60728D9B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51C5-FA00-4B22-B92D-0E50DB4ABAD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C473-3917-44D9-B0D6-D6FCD095648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708C-2142-479B-9F8C-86F97078E40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3289-5A5C-469A-A7CD-76B68790740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B0C6-DB26-4A8B-9C5E-6A380093C9F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34A1-9B92-44B0-AF2A-95417C2BD6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C7C2-8B0A-49E8-ABE4-54F80E0BC3E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84B7-DF20-4736-8E27-16165AD5489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E756-6E2B-4A5F-9E6B-48AD546AC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3A1E-AD0B-4EAE-96CE-35A1182192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9C13-FD4E-477B-93C8-A0B7D350ACF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BFCF-4DBB-4A72-ABDC-BA8F276CB0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04EC-6A9C-4D67-AFE2-EB83D8885FE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8561CB-0938-4C7D-AB8C-7170F6D959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6D66C-0584-48AE-A5C7-035A5B473E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C012F-5EB6-424A-9A29-90051AE85D4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3E48E-7A2A-4DE9-90A4-98E2A61409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79706-1E20-48FB-A569-89616D13DF0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481E5B-2DA4-418C-AD01-1B82DCD5A71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48FA1-5435-40C3-82A0-26DA49BEF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7153-85D2-457D-AA58-F41DB724E88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52E2E-DCE5-4C51-8B63-2C4CA15D5AB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352B50-F66E-42B3-9EFA-F51F755765A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0CE8A4-CFF8-4D3B-84EA-6D0D5B8E3B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74F7A-4185-4B34-9798-1006E3D26E5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218FD6-F809-4935-B2DC-94C844EA0E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E5286-8667-460F-930E-DF5B157DDA8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2D79B-D0B7-49EC-A2A6-D849626A1E6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373E3-5CA7-49F7-9187-0B0DFD50142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D7BF0-D989-4D24-83DF-C45C6217502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AF692-2682-4DB9-A1B9-4C8D22630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DC0C-AD81-48C4-8C37-D106A195DB3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699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622AF-64FC-4A7D-B9A4-80302CC62B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F65A9-1AAB-42B6-8789-6DBF7B8F834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34B24-3C5F-4EE7-8B05-04F13D5058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57CAB-BAEA-4EC3-88F2-09174271343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2160"/>
            <a:ext cx="1096992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DD5B2-12BB-45D6-8109-683ACCB9387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0880" y="159984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0880" y="3962160"/>
            <a:ext cx="535320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C9C12-0AB9-4D24-8B06-D6DA771FFE1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856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7280" y="159984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856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7280" y="3962160"/>
            <a:ext cx="3531960" cy="215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7BF91-2534-4F86-8066-C3C9762F4A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922D-A804-45B9-A975-C81EC1A7E4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54DF2-9AB7-4E16-BDFC-83EB0330FF6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5152-8420-43AE-9442-82CD04801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96464B-3163-44BA-A923-E88D9DCB58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4045B1-67E2-4DD5-819D-4185836770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662B5B-8B4E-40F4-B455-DCA1FFD4F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E62B98-EC03-496D-A20E-83723A953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3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7BDD2D-4E00-4772-937C-A61FA4842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7AC9A7-2F56-498B-A91E-076729EAF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3435D8-F22C-4FA0-BDB6-437780A3F9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5C9CC3-6AEB-4AFA-A21B-F757575BC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AD1B5E-19F8-4EC7-90AC-774F997637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CBF756-DDF5-4C99-B3F7-7BDC4A7F2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9A8CDE-2022-41DC-974A-43F97B1CC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279898-9CDE-4B74-BCE7-775DF6693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1139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69920" cy="4522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09480" y="6243480"/>
            <a:ext cx="28450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4165560" y="6243480"/>
            <a:ext cx="3861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8737560" y="6243120"/>
            <a:ext cx="2841840" cy="474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A40C26-4385-4B40-AA0B-4894D3F0C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"/>
          <p:cNvSpPr/>
          <p:nvPr/>
        </p:nvSpPr>
        <p:spPr>
          <a:xfrm>
            <a:off x="1023840" y="1428840"/>
            <a:ext cx="13001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0" y="0"/>
            <a:ext cx="10706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6696000" y="6480000"/>
            <a:ext cx="5641920" cy="378000"/>
          </a:xfrm>
          <a:prstGeom prst="rect">
            <a:avLst/>
          </a:prstGeom>
          <a:solidFill>
            <a:srgbClr val="9ecaf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лефон службы спасения - 1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2:26:26Z</dcterms:created>
  <dc:creator>Sekretar</dc:creator>
  <dc:description/>
  <dc:language>en-US</dc:language>
  <cp:lastModifiedBy>ChenchovaSA</cp:lastModifiedBy>
  <dcterms:modified xsi:type="dcterms:W3CDTF">2023-11-23T12:02:15Z</dcterms:modified>
  <cp:revision>6412</cp:revision>
  <dc:subject/>
  <dc:title>Доклад Начальника центра ГИМС МЧС России по Ярославской области «О результатах деятельности центра Государственной инспекции по маломерным судам за 1 квартал 2009 года и задачи на 2 квартал 2009 года»</dc:title>
</cp:coreProperties>
</file>